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6.gif" ContentType="image/gif"/>
  <Override PartName="/ppt/media/image5.jpeg" ContentType="image/jpeg"/>
  <Override PartName="/ppt/media/image10.png" ContentType="image/png"/>
  <Override PartName="/ppt/media/image1.jpeg" ContentType="image/jpeg"/>
  <Override PartName="/ppt/media/image9.gif" ContentType="image/gif"/>
  <Override PartName="/ppt/media/type.wav" ContentType="audio/x-wav"/>
  <Override PartName="/ppt/media/image2.gif" ContentType="image/gif"/>
  <Override PartName="/ppt/media/camera.wav" ContentType="audio/x-wav"/>
  <Override PartName="/ppt/media/image7.jpeg" ContentType="image/jpeg"/>
  <Override PartName="/ppt/media/image3.gif" ContentType="image/gif"/>
  <Override PartName="/ppt/media/wind.wav" ContentType="audio/x-wav"/>
  <Override PartName="/ppt/media/chimes.wav" ContentType="audio/x-wav"/>
  <Override PartName="/ppt/media/cashreg.wav" ContentType="audio/x-wav"/>
  <Override PartName="/ppt/media/image4.jpeg" ContentType="image/jpe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507-EABD-4A3C-9799-1CAED14E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B99-3B52-4314-A32D-A4A4698E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063-2867-4A74-9D6B-7F13FD3C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B8A-E060-4D25-A61E-16DA488C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C83D-A6F8-4E9D-8E70-83AD83CE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370F-9A61-48E3-8A6F-5E8203FF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E579-3B2C-4D81-95A1-1A490B5E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2AEE-D4D6-48A3-8D3B-EE0A4873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DC04-8CB5-4891-96E3-71D6550E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78A2-FC84-4B42-AA90-4620B35A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8B74-32EC-435B-8B5D-2891B03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DEE-2EF5-429B-8163-0E820C91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5BF9-7C26-4CB8-B556-FF341EDA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FD7F-941A-4277-BF28-ACF6AD28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D558-5487-4D76-98C5-C2FFA608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546D-D036-4FB3-8FC8-F398B184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AD60-122E-4FE4-BD75-6984C606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8CD-AB4D-4024-A77D-FF17E753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B3F-A5F8-4710-8A71-AC4C3965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746-5AF3-4CF5-9E37-4D530EB6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7B2-A510-47C0-B60B-F99D6BBC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240-7AC1-4D2A-B217-647E0B82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299-60D9-4143-A923-3A41EC0E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310-E514-4660-84D2-1A1238F8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52225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4643-9718-4879-BAD6-87142E3FA0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任意多边形 52231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任意多边形 52232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组合 52233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任意多边形 52234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任意多边形 52235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任意多边形 52236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任意多边形 52237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任意多边形 52238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任意多边形 52239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任意多边形 52240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任意多边形 52241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任意多边形 52242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组合 52243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组合 52244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任意多边形 52245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任意多边形 52246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任意多边形 52247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任意多边形 52248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任意多边形 52249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任意多边形 52250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组合 52251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任意多边形 52252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任意多边形 52253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任意多边形 52254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任意多边形 52255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任意多边形 52256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任意多边形 52257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任意多边形 52258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任意多边形 52259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组合 52260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任意多边形 52261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任意多边形 52262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组合 52263"/>
          <p:cNvGrpSpPr/>
          <p:nvPr/>
        </p:nvGrpSpPr>
        <p:grpSpPr>
          <a:xfrm>
            <a:off x="7171560" y="-86040"/>
            <a:ext cx="2427480" cy="2247120"/>
            <a:chOff x="7171560" y="-86040"/>
            <a:chExt cx="2427480" cy="2247120"/>
          </a:xfrm>
        </p:grpSpPr>
        <p:grpSp>
          <p:nvGrpSpPr>
            <p:cNvPr id="39" name="组合 52264"/>
            <p:cNvGrpSpPr/>
            <p:nvPr/>
          </p:nvGrpSpPr>
          <p:grpSpPr>
            <a:xfrm>
              <a:off x="7171560" y="-86040"/>
              <a:ext cx="2427480" cy="2247120"/>
              <a:chOff x="7171560" y="-86040"/>
              <a:chExt cx="2427480" cy="2247120"/>
            </a:xfrm>
          </p:grpSpPr>
          <p:sp>
            <p:nvSpPr>
              <p:cNvPr id="40" name="任意多边形 52265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组合 52266"/>
              <p:cNvGrpSpPr/>
              <p:nvPr/>
            </p:nvGrpSpPr>
            <p:grpSpPr>
              <a:xfrm>
                <a:off x="7171560" y="-86040"/>
                <a:ext cx="2427480" cy="2247120"/>
                <a:chOff x="7171560" y="-86040"/>
                <a:chExt cx="2427480" cy="2247120"/>
              </a:xfrm>
            </p:grpSpPr>
            <p:sp>
              <p:nvSpPr>
                <p:cNvPr id="42" name="任意多边形 52267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任意多边形 52268"/>
                <p:cNvSpPr/>
                <p:nvPr/>
              </p:nvSpPr>
              <p:spPr>
                <a:xfrm rot="18427200">
                  <a:off x="801288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任意多边形 52269"/>
                <p:cNvSpPr/>
                <p:nvPr/>
              </p:nvSpPr>
              <p:spPr>
                <a:xfrm rot="18427200">
                  <a:off x="771156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任意多边形 52270"/>
                <p:cNvSpPr/>
                <p:nvPr/>
              </p:nvSpPr>
              <p:spPr>
                <a:xfrm rot="18427200">
                  <a:off x="7783200" y="-2880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任意多边形 52271"/>
                <p:cNvSpPr/>
                <p:nvPr/>
              </p:nvSpPr>
              <p:spPr>
                <a:xfrm rot="18427200">
                  <a:off x="8407800" y="142272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任意多边形 52272"/>
                <p:cNvSpPr/>
                <p:nvPr/>
              </p:nvSpPr>
              <p:spPr>
                <a:xfrm rot="18427200">
                  <a:off x="833796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任意多边形 52273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任意多边形 52274"/>
                <p:cNvSpPr/>
                <p:nvPr/>
              </p:nvSpPr>
              <p:spPr>
                <a:xfrm rot="18427200">
                  <a:off x="7853760" y="22464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直接连接符 52275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1" name="图片 1" descr="空白背景模板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任意多边形 53249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组合 53255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0" name="任意多边形 53256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任意多边形 53257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任意多边形 53258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" name="组合 53259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4" name="任意多边形 53260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任意多边形 53261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任意多边形 53262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任意多边形 53263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任意多边形 53264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9" name="组合 53265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100" name="任意多边形 53266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任意多边形 53267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任意多边形 53268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" name="组合 53269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104" name="任意多边形 53270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任意多边形 53271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任意多边形 53272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任意多边形 53273"/>
              <p:cNvSpPr/>
              <p:nvPr/>
            </p:nvSpPr>
            <p:spPr>
              <a:xfrm rot="7320000">
                <a:off x="8514360" y="456192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任意多边形 53274"/>
              <p:cNvSpPr/>
              <p:nvPr/>
            </p:nvSpPr>
            <p:spPr>
              <a:xfrm rot="7320000">
                <a:off x="8153640" y="47613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任意多边形 53275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任意多边形 53276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8ECD-5A34-4A3B-9E97-684C69FB49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2.gif"/><Relationship Id="rId5" Type="http://schemas.openxmlformats.org/officeDocument/2006/relationships/audio" Target="../media/wind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9.gif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32772"/>
          <p:cNvSpPr txBox="1"/>
          <p:nvPr/>
        </p:nvSpPr>
        <p:spPr>
          <a:xfrm>
            <a:off x="1619280" y="2565360"/>
            <a:ext cx="5943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分解质因数</a:t>
            </a:r>
            <a:endParaRPr b="1" lang="en-US" sz="6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3" name="图片 32775" descr="03"/>
          <p:cNvPicPr/>
          <p:nvPr/>
        </p:nvPicPr>
        <p:blipFill>
          <a:blip r:embed="rId1"/>
          <a:stretch/>
        </p:blipFill>
        <p:spPr>
          <a:xfrm>
            <a:off x="7772400" y="2743200"/>
            <a:ext cx="685800" cy="5763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2776" descr="03"/>
          <p:cNvPicPr/>
          <p:nvPr/>
        </p:nvPicPr>
        <p:blipFill>
          <a:blip r:embed="rId2"/>
          <a:stretch/>
        </p:blipFill>
        <p:spPr>
          <a:xfrm>
            <a:off x="355680" y="228600"/>
            <a:ext cx="863640" cy="7398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2777" descr="01"/>
          <p:cNvPicPr/>
          <p:nvPr/>
        </p:nvPicPr>
        <p:blipFill>
          <a:blip r:embed="rId3"/>
          <a:stretch/>
        </p:blipFill>
        <p:spPr>
          <a:xfrm rot="2851800">
            <a:off x="8368560" y="5088240"/>
            <a:ext cx="682560" cy="8654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2778" descr="01"/>
          <p:cNvPicPr/>
          <p:nvPr/>
        </p:nvPicPr>
        <p:blipFill>
          <a:blip r:embed="rId4"/>
          <a:stretch/>
        </p:blipFill>
        <p:spPr>
          <a:xfrm rot="2851800">
            <a:off x="6083280" y="21960"/>
            <a:ext cx="704880" cy="8920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2779" descr="03"/>
          <p:cNvPicPr/>
          <p:nvPr/>
        </p:nvPicPr>
        <p:blipFill>
          <a:blip r:embed="rId5"/>
          <a:stretch/>
        </p:blipFill>
        <p:spPr>
          <a:xfrm>
            <a:off x="1676520" y="4572000"/>
            <a:ext cx="533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7409"/>
          <p:cNvSpPr/>
          <p:nvPr/>
        </p:nvSpPr>
        <p:spPr>
          <a:xfrm>
            <a:off x="250920" y="1125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3X4=52,1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都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因数吗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矩形 17410"/>
          <p:cNvSpPr/>
          <p:nvPr/>
        </p:nvSpPr>
        <p:spPr>
          <a:xfrm>
            <a:off x="611280" y="263700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都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质因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吗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18433"/>
          <p:cNvSpPr/>
          <p:nvPr/>
        </p:nvSpPr>
        <p:spPr>
          <a:xfrm>
            <a:off x="1998720" y="2209680"/>
            <a:ext cx="52099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Times New Roman"/>
                <a:ea typeface="黑体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把一个合数用质因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相乘的形式表示出来，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</a:t>
            </a: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黑体"/>
              </a:rPr>
              <a:t>分解质因数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直接连接符 18434"/>
          <p:cNvSpPr/>
          <p:nvPr/>
        </p:nvSpPr>
        <p:spPr>
          <a:xfrm>
            <a:off x="3962520" y="3276720"/>
            <a:ext cx="144756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直接连接符 18435"/>
          <p:cNvSpPr/>
          <p:nvPr/>
        </p:nvSpPr>
        <p:spPr>
          <a:xfrm>
            <a:off x="6324480" y="327672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矩形 18437"/>
          <p:cNvSpPr/>
          <p:nvPr/>
        </p:nvSpPr>
        <p:spPr>
          <a:xfrm>
            <a:off x="1549080" y="604800"/>
            <a:ext cx="43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什么是分解质因数呢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本框 36868"/>
          <p:cNvSpPr/>
          <p:nvPr/>
        </p:nvSpPr>
        <p:spPr>
          <a:xfrm>
            <a:off x="0" y="83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请把下面各数分解质因数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矩形 36870"/>
          <p:cNvSpPr/>
          <p:nvPr/>
        </p:nvSpPr>
        <p:spPr>
          <a:xfrm>
            <a:off x="416880" y="2895480"/>
            <a:ext cx="737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黑体"/>
                <a:ea typeface="黑体"/>
              </a:rPr>
              <a:t>55      </a:t>
            </a:r>
            <a:r>
              <a:rPr b="1" lang="en-US" sz="8800" spc="-1" strike="noStrike">
                <a:solidFill>
                  <a:srgbClr val="cc0000"/>
                </a:solidFill>
                <a:latin typeface="黑体"/>
                <a:ea typeface="黑体"/>
              </a:rPr>
              <a:t>60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直接连接符 45057"/>
          <p:cNvSpPr/>
          <p:nvPr/>
        </p:nvSpPr>
        <p:spPr>
          <a:xfrm>
            <a:off x="1635120" y="9334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直接连接符 45058"/>
          <p:cNvSpPr/>
          <p:nvPr/>
        </p:nvSpPr>
        <p:spPr>
          <a:xfrm>
            <a:off x="1635120" y="2305080"/>
            <a:ext cx="17146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文本框 45059"/>
          <p:cNvSpPr/>
          <p:nvPr/>
        </p:nvSpPr>
        <p:spPr>
          <a:xfrm>
            <a:off x="2157480" y="113364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文本框 45060"/>
          <p:cNvSpPr/>
          <p:nvPr/>
        </p:nvSpPr>
        <p:spPr>
          <a:xfrm>
            <a:off x="986760" y="1305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文本框 45061"/>
          <p:cNvSpPr/>
          <p:nvPr/>
        </p:nvSpPr>
        <p:spPr>
          <a:xfrm>
            <a:off x="2066040" y="2576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文本框 45062"/>
          <p:cNvSpPr/>
          <p:nvPr/>
        </p:nvSpPr>
        <p:spPr>
          <a:xfrm>
            <a:off x="985680" y="5043600"/>
            <a:ext cx="324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5×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3" name="组合 45063"/>
          <p:cNvGrpSpPr/>
          <p:nvPr/>
        </p:nvGrpSpPr>
        <p:grpSpPr>
          <a:xfrm>
            <a:off x="5524560" y="642960"/>
            <a:ext cx="1909440" cy="1114560"/>
            <a:chOff x="5524560" y="642960"/>
            <a:chExt cx="1909440" cy="1114560"/>
          </a:xfrm>
        </p:grpSpPr>
        <p:sp>
          <p:nvSpPr>
            <p:cNvPr id="224" name="直接连接符 45064"/>
            <p:cNvSpPr/>
            <p:nvPr/>
          </p:nvSpPr>
          <p:spPr>
            <a:xfrm>
              <a:off x="5524560" y="642960"/>
              <a:ext cx="0" cy="1114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直接连接符 45065"/>
            <p:cNvSpPr/>
            <p:nvPr/>
          </p:nvSpPr>
          <p:spPr>
            <a:xfrm>
              <a:off x="5524560" y="1757520"/>
              <a:ext cx="1909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6" name="组合 45066"/>
          <p:cNvGrpSpPr/>
          <p:nvPr/>
        </p:nvGrpSpPr>
        <p:grpSpPr>
          <a:xfrm>
            <a:off x="6010200" y="1757520"/>
            <a:ext cx="1424160" cy="1199880"/>
            <a:chOff x="6010200" y="1757520"/>
            <a:chExt cx="1424160" cy="1199880"/>
          </a:xfrm>
        </p:grpSpPr>
        <p:sp>
          <p:nvSpPr>
            <p:cNvPr id="227" name="直接连接符 45067"/>
            <p:cNvSpPr/>
            <p:nvPr/>
          </p:nvSpPr>
          <p:spPr>
            <a:xfrm>
              <a:off x="6010200" y="1757520"/>
              <a:ext cx="0" cy="11998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直接连接符 45068"/>
            <p:cNvSpPr/>
            <p:nvPr/>
          </p:nvSpPr>
          <p:spPr>
            <a:xfrm>
              <a:off x="6010200" y="2957400"/>
              <a:ext cx="1424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组合 45069"/>
          <p:cNvGrpSpPr/>
          <p:nvPr/>
        </p:nvGrpSpPr>
        <p:grpSpPr>
          <a:xfrm>
            <a:off x="6500880" y="2957400"/>
            <a:ext cx="933480" cy="1185840"/>
            <a:chOff x="6500880" y="2957400"/>
            <a:chExt cx="933480" cy="1185840"/>
          </a:xfrm>
        </p:grpSpPr>
        <p:sp>
          <p:nvSpPr>
            <p:cNvPr id="230" name="直接连接符 45070"/>
            <p:cNvSpPr/>
            <p:nvPr/>
          </p:nvSpPr>
          <p:spPr>
            <a:xfrm>
              <a:off x="6500880" y="2957400"/>
              <a:ext cx="0" cy="11858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直接连接符 45071"/>
            <p:cNvSpPr/>
            <p:nvPr/>
          </p:nvSpPr>
          <p:spPr>
            <a:xfrm>
              <a:off x="6500880" y="4143240"/>
              <a:ext cx="9334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2" name="文本框 45072"/>
          <p:cNvSpPr/>
          <p:nvPr/>
        </p:nvSpPr>
        <p:spPr>
          <a:xfrm>
            <a:off x="4852440" y="6429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文本框 45073"/>
          <p:cNvSpPr/>
          <p:nvPr/>
        </p:nvSpPr>
        <p:spPr>
          <a:xfrm>
            <a:off x="5826600" y="82404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文本框 45074"/>
          <p:cNvSpPr/>
          <p:nvPr/>
        </p:nvSpPr>
        <p:spPr>
          <a:xfrm>
            <a:off x="5315040" y="1995480"/>
            <a:ext cx="4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文本框 45075"/>
          <p:cNvSpPr/>
          <p:nvPr/>
        </p:nvSpPr>
        <p:spPr>
          <a:xfrm>
            <a:off x="5919120" y="3205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文本框 45076"/>
          <p:cNvSpPr/>
          <p:nvPr/>
        </p:nvSpPr>
        <p:spPr>
          <a:xfrm>
            <a:off x="6320520" y="19335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文本框 45077"/>
          <p:cNvSpPr/>
          <p:nvPr/>
        </p:nvSpPr>
        <p:spPr>
          <a:xfrm>
            <a:off x="6569640" y="32050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文本框 45078"/>
          <p:cNvSpPr/>
          <p:nvPr/>
        </p:nvSpPr>
        <p:spPr>
          <a:xfrm>
            <a:off x="6795720" y="42148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文本框 45079"/>
          <p:cNvSpPr/>
          <p:nvPr/>
        </p:nvSpPr>
        <p:spPr>
          <a:xfrm>
            <a:off x="5122440" y="5043600"/>
            <a:ext cx="31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2×2×3×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组合 33797"/>
          <p:cNvGrpSpPr/>
          <p:nvPr/>
        </p:nvGrpSpPr>
        <p:grpSpPr>
          <a:xfrm>
            <a:off x="2819520" y="3352680"/>
            <a:ext cx="2743200" cy="914400"/>
            <a:chOff x="2819520" y="3352680"/>
            <a:chExt cx="2743200" cy="914400"/>
          </a:xfrm>
        </p:grpSpPr>
        <p:sp>
          <p:nvSpPr>
            <p:cNvPr id="241" name="直接连接符 33793"/>
            <p:cNvSpPr/>
            <p:nvPr/>
          </p:nvSpPr>
          <p:spPr>
            <a:xfrm>
              <a:off x="2819520" y="4267080"/>
              <a:ext cx="27432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直接连接符 33794"/>
            <p:cNvSpPr/>
            <p:nvPr/>
          </p:nvSpPr>
          <p:spPr>
            <a:xfrm>
              <a:off x="2819520" y="3352680"/>
              <a:ext cx="0" cy="9144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" name="文本框 33795"/>
          <p:cNvSpPr/>
          <p:nvPr/>
        </p:nvSpPr>
        <p:spPr>
          <a:xfrm>
            <a:off x="609480" y="175248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分解质因数</a:t>
            </a:r>
            <a:r>
              <a:rPr b="0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文本框 33796"/>
          <p:cNvSpPr/>
          <p:nvPr/>
        </p:nvSpPr>
        <p:spPr>
          <a:xfrm>
            <a:off x="3124080" y="312408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矩形 33798"/>
          <p:cNvSpPr/>
          <p:nvPr/>
        </p:nvSpPr>
        <p:spPr>
          <a:xfrm>
            <a:off x="856080" y="228600"/>
            <a:ext cx="172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试一试</a:t>
            </a:r>
            <a:r>
              <a:rPr b="1" lang="en-US" sz="66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文本框 33799"/>
          <p:cNvSpPr/>
          <p:nvPr/>
        </p:nvSpPr>
        <p:spPr>
          <a:xfrm>
            <a:off x="1219320" y="4952880"/>
            <a:ext cx="716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先用</a:t>
            </a: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作除数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行吗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37889"/>
          <p:cNvSpPr/>
          <p:nvPr/>
        </p:nvSpPr>
        <p:spPr>
          <a:xfrm>
            <a:off x="0" y="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你能把下面各数分解质因数吗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矩形 37890"/>
          <p:cNvSpPr/>
          <p:nvPr/>
        </p:nvSpPr>
        <p:spPr>
          <a:xfrm>
            <a:off x="990720" y="2895480"/>
            <a:ext cx="685800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黑体"/>
              <a:buAutoNum type="arabicPlain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黑体"/>
                <a:ea typeface="黑体"/>
              </a:rPr>
              <a:t>0      12  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en-US" sz="8800" spc="-1" strike="noStrike">
                <a:solidFill>
                  <a:srgbClr val="cc0000"/>
                </a:solidFill>
                <a:latin typeface="黑体"/>
                <a:ea typeface="黑体"/>
              </a:rPr>
              <a:t>6       72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23553"/>
          <p:cNvSpPr/>
          <p:nvPr/>
        </p:nvSpPr>
        <p:spPr>
          <a:xfrm>
            <a:off x="120240" y="0"/>
            <a:ext cx="78922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、选一选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解质因数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.10=2×5   B.10=1×2×5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.10=1×10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矩形 23554"/>
          <p:cNvSpPr/>
          <p:nvPr/>
        </p:nvSpPr>
        <p:spPr>
          <a:xfrm>
            <a:off x="6012000" y="69228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矩形 23555"/>
          <p:cNvSpPr/>
          <p:nvPr/>
        </p:nvSpPr>
        <p:spPr>
          <a:xfrm flipH="1">
            <a:off x="6372360" y="292428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矩形 23556"/>
          <p:cNvSpPr/>
          <p:nvPr/>
        </p:nvSpPr>
        <p:spPr>
          <a:xfrm>
            <a:off x="456480" y="3213000"/>
            <a:ext cx="7221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解质因数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.3×9=27  B.3×3×3=27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C.27=3×3×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25603"/>
          <p:cNvSpPr/>
          <p:nvPr/>
        </p:nvSpPr>
        <p:spPr>
          <a:xfrm>
            <a:off x="0" y="0"/>
            <a:ext cx="914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、看谁是个小判官</a:t>
            </a:r>
            <a:r>
              <a:rPr b="1" lang="en-US" sz="6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⊙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把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35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分解质因数是 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35=1×5×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文本框 25604"/>
          <p:cNvSpPr/>
          <p:nvPr/>
        </p:nvSpPr>
        <p:spPr>
          <a:xfrm>
            <a:off x="6783480" y="228600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文本框 25605"/>
          <p:cNvSpPr/>
          <p:nvPr/>
        </p:nvSpPr>
        <p:spPr>
          <a:xfrm>
            <a:off x="7430760" y="414972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矩形 25606"/>
          <p:cNvSpPr/>
          <p:nvPr/>
        </p:nvSpPr>
        <p:spPr>
          <a:xfrm>
            <a:off x="0" y="39448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⊙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把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49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分解质因数是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7×7=4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27649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文本框 27650"/>
          <p:cNvSpPr/>
          <p:nvPr/>
        </p:nvSpPr>
        <p:spPr>
          <a:xfrm>
            <a:off x="0" y="90792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解质因数是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0=2×3×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文本框 27651"/>
          <p:cNvSpPr/>
          <p:nvPr/>
        </p:nvSpPr>
        <p:spPr>
          <a:xfrm>
            <a:off x="7070040" y="292428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任意多边形 27658"/>
          <p:cNvSpPr/>
          <p:nvPr/>
        </p:nvSpPr>
        <p:spPr>
          <a:xfrm>
            <a:off x="6705720" y="1752480"/>
            <a:ext cx="914400" cy="432000"/>
          </a:xfrm>
          <a:custGeom>
            <a:avLst/>
            <a:gdLst/>
            <a:ahLst/>
            <a:rect l="l" t="t" r="r" b="b"/>
            <a:pathLst>
              <a:path w="808" h="488">
                <a:moveTo>
                  <a:pt x="0" y="264"/>
                </a:moveTo>
                <a:cubicBezTo>
                  <a:pt x="60" y="376"/>
                  <a:pt x="120" y="488"/>
                  <a:pt x="240" y="456"/>
                </a:cubicBezTo>
                <a:cubicBezTo>
                  <a:pt x="360" y="424"/>
                  <a:pt x="632" y="144"/>
                  <a:pt x="720" y="72"/>
                </a:cubicBezTo>
                <a:cubicBezTo>
                  <a:pt x="808" y="0"/>
                  <a:pt x="760" y="32"/>
                  <a:pt x="768" y="24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文本框 27661"/>
          <p:cNvSpPr/>
          <p:nvPr/>
        </p:nvSpPr>
        <p:spPr>
          <a:xfrm>
            <a:off x="0" y="3352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不能分解质因数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文本框 31745"/>
          <p:cNvSpPr/>
          <p:nvPr/>
        </p:nvSpPr>
        <p:spPr>
          <a:xfrm>
            <a:off x="6324480" y="57150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图片 31746" descr="BJ120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1747"/>
          <p:cNvSpPr/>
          <p:nvPr/>
        </p:nvSpPr>
        <p:spPr>
          <a:xfrm>
            <a:off x="468360" y="1700280"/>
            <a:ext cx="6624720" cy="34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想一想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通过这节课的学习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你有哪些收获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5" name="图片 31748" descr="A-1-104"/>
          <p:cNvPicPr/>
          <p:nvPr/>
        </p:nvPicPr>
        <p:blipFill>
          <a:blip r:embed="rId2"/>
          <a:stretch/>
        </p:blipFill>
        <p:spPr>
          <a:xfrm>
            <a:off x="1676520" y="404640"/>
            <a:ext cx="5333760" cy="119412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31749" descr="GIF203"/>
          <p:cNvPicPr/>
          <p:nvPr/>
        </p:nvPicPr>
        <p:blipFill>
          <a:blip r:embed="rId3"/>
          <a:stretch/>
        </p:blipFill>
        <p:spPr>
          <a:xfrm>
            <a:off x="324000" y="1844640"/>
            <a:ext cx="792000" cy="63036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31750" descr="03"/>
          <p:cNvPicPr/>
          <p:nvPr/>
        </p:nvPicPr>
        <p:blipFill>
          <a:blip r:embed="rId4"/>
          <a:stretch/>
        </p:blipFill>
        <p:spPr>
          <a:xfrm>
            <a:off x="533520" y="533520"/>
            <a:ext cx="761760" cy="641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5" name="wind.wav"/>
      </p:stSnd>
    </p:sndAc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7169"/>
          <p:cNvSpPr/>
          <p:nvPr/>
        </p:nvSpPr>
        <p:spPr>
          <a:xfrm>
            <a:off x="2673360" y="182880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Times New Roman"/>
                <a:ea typeface="黑体"/>
              </a:rPr>
              <a:t>什么是质数？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矩形 7173"/>
          <p:cNvSpPr/>
          <p:nvPr/>
        </p:nvSpPr>
        <p:spPr>
          <a:xfrm>
            <a:off x="2673360" y="365760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ff"/>
                </a:solidFill>
                <a:latin typeface="Times New Roman"/>
                <a:ea typeface="黑体"/>
              </a:rPr>
              <a:t>什么是合数？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43009" descr="bj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43010" descr="bjh"/>
          <p:cNvPicPr/>
          <p:nvPr/>
        </p:nvPicPr>
        <p:blipFill>
          <a:blip r:embed="rId2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43011" descr="xin"/>
          <p:cNvPicPr/>
          <p:nvPr/>
        </p:nvPicPr>
        <p:blipFill>
          <a:blip r:embed="rId3"/>
          <a:stretch/>
        </p:blipFill>
        <p:spPr>
          <a:xfrm>
            <a:off x="1676520" y="4952880"/>
            <a:ext cx="64008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矩形 43012"/>
          <p:cNvSpPr txBox="1"/>
          <p:nvPr/>
        </p:nvSpPr>
        <p:spPr>
          <a:xfrm>
            <a:off x="971640" y="1295280"/>
            <a:ext cx="40575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，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2" name="矩形 43013"/>
          <p:cNvSpPr txBox="1"/>
          <p:nvPr/>
        </p:nvSpPr>
        <p:spPr>
          <a:xfrm>
            <a:off x="4211640" y="3141720"/>
            <a:ext cx="4105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再见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73" name="图片 43015" descr="01"/>
          <p:cNvPicPr/>
          <p:nvPr/>
        </p:nvPicPr>
        <p:blipFill>
          <a:blip r:embed="rId4"/>
          <a:stretch/>
        </p:blipFill>
        <p:spPr>
          <a:xfrm rot="2851800">
            <a:off x="3173040" y="3169800"/>
            <a:ext cx="1003320" cy="10861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43016" descr="01"/>
          <p:cNvPicPr/>
          <p:nvPr/>
        </p:nvPicPr>
        <p:blipFill>
          <a:blip r:embed="rId5"/>
          <a:stretch/>
        </p:blipFill>
        <p:spPr>
          <a:xfrm rot="2851800">
            <a:off x="1421640" y="4272480"/>
            <a:ext cx="682920" cy="86544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43017" descr="01"/>
          <p:cNvPicPr/>
          <p:nvPr/>
        </p:nvPicPr>
        <p:blipFill>
          <a:blip r:embed="rId6"/>
          <a:stretch/>
        </p:blipFill>
        <p:spPr>
          <a:xfrm rot="2851800">
            <a:off x="1132200" y="5568480"/>
            <a:ext cx="682560" cy="86508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43018" descr="01"/>
          <p:cNvPicPr/>
          <p:nvPr/>
        </p:nvPicPr>
        <p:blipFill>
          <a:blip r:embed="rId7"/>
          <a:stretch/>
        </p:blipFill>
        <p:spPr>
          <a:xfrm rot="2851800">
            <a:off x="4281120" y="1280880"/>
            <a:ext cx="68256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43019" descr="01"/>
          <p:cNvPicPr/>
          <p:nvPr/>
        </p:nvPicPr>
        <p:blipFill>
          <a:blip r:embed="rId8"/>
          <a:stretch/>
        </p:blipFill>
        <p:spPr>
          <a:xfrm rot="2851800">
            <a:off x="5352480" y="920520"/>
            <a:ext cx="455760" cy="57636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43020" descr="RX_009"/>
          <p:cNvPicPr/>
          <p:nvPr/>
        </p:nvPicPr>
        <p:blipFill>
          <a:blip r:embed="rId9"/>
          <a:stretch/>
        </p:blipFill>
        <p:spPr>
          <a:xfrm>
            <a:off x="7921800" y="4572000"/>
            <a:ext cx="1222200" cy="2286000"/>
          </a:xfrm>
          <a:prstGeom prst="rect">
            <a:avLst/>
          </a:prstGeom>
          <a:ln w="0">
            <a:noFill/>
          </a:ln>
        </p:spPr>
      </p:pic>
      <p:pic>
        <p:nvPicPr>
          <p:cNvPr id="279" name="吉祥三宝.wma汉.wma" descr=""/>
          <p:cNvPicPr/>
          <p:nvPr/>
        </p:nvPicPr>
        <p:blipFill>
          <a:blip r:embed="rId10"/>
          <a:stretch/>
        </p:blipFill>
        <p:spPr>
          <a:xfrm>
            <a:off x="0" y="63244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9" dur="213483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8193"/>
          <p:cNvSpPr/>
          <p:nvPr/>
        </p:nvSpPr>
        <p:spPr>
          <a:xfrm>
            <a:off x="0" y="1066680"/>
            <a:ext cx="9144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在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、 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7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、 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12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35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、 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4 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、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21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、 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13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、 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这些数中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质数有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:                                                 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直接连接符 8194"/>
          <p:cNvSpPr/>
          <p:nvPr/>
        </p:nvSpPr>
        <p:spPr>
          <a:xfrm>
            <a:off x="2971800" y="510552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直接连接符 8195"/>
          <p:cNvSpPr/>
          <p:nvPr/>
        </p:nvSpPr>
        <p:spPr>
          <a:xfrm>
            <a:off x="2971800" y="5943600"/>
            <a:ext cx="5715000" cy="0"/>
          </a:xfrm>
          <a:prstGeom prst="line">
            <a:avLst/>
          </a:prstGeom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文本框 8197"/>
          <p:cNvSpPr/>
          <p:nvPr/>
        </p:nvSpPr>
        <p:spPr>
          <a:xfrm>
            <a:off x="3282840" y="4038480"/>
            <a:ext cx="5262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文本框 8198"/>
          <p:cNvSpPr/>
          <p:nvPr/>
        </p:nvSpPr>
        <p:spPr>
          <a:xfrm>
            <a:off x="3048120" y="463248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35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4 </a:t>
            </a:r>
            <a:r>
              <a:rPr b="1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矩形 8201"/>
          <p:cNvSpPr/>
          <p:nvPr/>
        </p:nvSpPr>
        <p:spPr>
          <a:xfrm>
            <a:off x="365400" y="4952880"/>
            <a:ext cx="239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合数有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9217"/>
          <p:cNvSpPr/>
          <p:nvPr/>
        </p:nvSpPr>
        <p:spPr>
          <a:xfrm>
            <a:off x="923400" y="-2620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思考：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文本框 9218"/>
          <p:cNvSpPr/>
          <p:nvPr/>
        </p:nvSpPr>
        <p:spPr>
          <a:xfrm>
            <a:off x="-371520" y="365040"/>
            <a:ext cx="96904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黑体"/>
                <a:ea typeface="黑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黑体"/>
                <a:ea typeface="黑体"/>
              </a:rPr>
              <a:t>  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下面的数</a:t>
            </a:r>
            <a:r>
              <a:rPr b="1" lang="en-US" sz="66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哪些能写成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几个</a:t>
            </a: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质数</a:t>
            </a:r>
            <a:r>
              <a:rPr b="1" lang="zh-CN" sz="6600" spc="-1" strike="noStrike">
                <a:solidFill>
                  <a:srgbClr val="0033cc"/>
                </a:solidFill>
                <a:latin typeface="黑体"/>
                <a:ea typeface="黑体"/>
              </a:rPr>
              <a:t>相乘的形式？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9600" spc="-1" strike="noStrike">
                <a:solidFill>
                  <a:srgbClr val="0033cc"/>
                </a:solidFill>
                <a:latin typeface="黑体"/>
                <a:ea typeface="黑体"/>
              </a:rPr>
              <a:t>7, 9, 11, 1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0244"/>
          <p:cNvSpPr/>
          <p:nvPr/>
        </p:nvSpPr>
        <p:spPr>
          <a:xfrm>
            <a:off x="762120" y="91440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8800" spc="-1" strike="noStrike">
                <a:solidFill>
                  <a:srgbClr val="0033cc"/>
                </a:solidFill>
                <a:latin typeface="黑体"/>
                <a:ea typeface="黑体"/>
              </a:rPr>
              <a:t>9=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文本框 10245"/>
          <p:cNvSpPr/>
          <p:nvPr/>
        </p:nvSpPr>
        <p:spPr>
          <a:xfrm>
            <a:off x="603360" y="2514600"/>
            <a:ext cx="219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黑体"/>
                <a:ea typeface="黑体"/>
              </a:rPr>
              <a:t>12=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文本框 10249"/>
          <p:cNvSpPr/>
          <p:nvPr/>
        </p:nvSpPr>
        <p:spPr>
          <a:xfrm>
            <a:off x="2819520" y="914400"/>
            <a:ext cx="304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黑体"/>
                <a:ea typeface="黑体"/>
              </a:rPr>
              <a:t>3×3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矩形 10250"/>
          <p:cNvSpPr/>
          <p:nvPr/>
        </p:nvSpPr>
        <p:spPr>
          <a:xfrm>
            <a:off x="2776680" y="252900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cc"/>
                </a:solidFill>
                <a:latin typeface="黑体"/>
                <a:ea typeface="黑体"/>
              </a:rPr>
              <a:t>2 ×2 ×3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12289"/>
          <p:cNvSpPr/>
          <p:nvPr/>
        </p:nvSpPr>
        <p:spPr>
          <a:xfrm>
            <a:off x="611280" y="1341360"/>
            <a:ext cx="7056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6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28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和</a:t>
            </a:r>
            <a:r>
              <a:rPr b="1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60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可以写成哪几个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质数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相乘的形式</a:t>
            </a:r>
            <a:r>
              <a:rPr b="1" lang="en-US" sz="44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14342"/>
          <p:cNvSpPr/>
          <p:nvPr/>
        </p:nvSpPr>
        <p:spPr>
          <a:xfrm>
            <a:off x="3771000" y="-3160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黑体"/>
                <a:ea typeface="黑体"/>
              </a:rPr>
              <a:t>28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直接连接符 14343"/>
          <p:cNvSpPr/>
          <p:nvPr/>
        </p:nvSpPr>
        <p:spPr>
          <a:xfrm flipH="1">
            <a:off x="3897000" y="1101600"/>
            <a:ext cx="576360" cy="6685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直接连接符 14344"/>
          <p:cNvSpPr/>
          <p:nvPr/>
        </p:nvSpPr>
        <p:spPr>
          <a:xfrm>
            <a:off x="4800600" y="1084320"/>
            <a:ext cx="380880" cy="5158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椭圆 14346"/>
          <p:cNvSpPr/>
          <p:nvPr/>
        </p:nvSpPr>
        <p:spPr>
          <a:xfrm>
            <a:off x="4876920" y="1523880"/>
            <a:ext cx="1371600" cy="1371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文本框 14347"/>
          <p:cNvSpPr/>
          <p:nvPr/>
        </p:nvSpPr>
        <p:spPr>
          <a:xfrm>
            <a:off x="3930840" y="16606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直接连接符 14348"/>
          <p:cNvSpPr/>
          <p:nvPr/>
        </p:nvSpPr>
        <p:spPr>
          <a:xfrm flipH="1">
            <a:off x="2676960" y="2783880"/>
            <a:ext cx="722880" cy="7963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直接连接符 14349"/>
          <p:cNvSpPr/>
          <p:nvPr/>
        </p:nvSpPr>
        <p:spPr>
          <a:xfrm>
            <a:off x="3505320" y="2819520"/>
            <a:ext cx="609480" cy="76176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椭圆 14350"/>
          <p:cNvSpPr/>
          <p:nvPr/>
        </p:nvSpPr>
        <p:spPr>
          <a:xfrm>
            <a:off x="1676520" y="3581280"/>
            <a:ext cx="1447560" cy="14479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椭圆 14351"/>
          <p:cNvSpPr/>
          <p:nvPr/>
        </p:nvSpPr>
        <p:spPr>
          <a:xfrm>
            <a:off x="3733920" y="3581280"/>
            <a:ext cx="1371600" cy="1371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文本框 14352"/>
          <p:cNvSpPr/>
          <p:nvPr/>
        </p:nvSpPr>
        <p:spPr>
          <a:xfrm>
            <a:off x="3065760" y="37180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直接连接符 14354"/>
          <p:cNvSpPr/>
          <p:nvPr/>
        </p:nvSpPr>
        <p:spPr>
          <a:xfrm>
            <a:off x="5867280" y="2895480"/>
            <a:ext cx="533520" cy="7621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椭圆 14356"/>
          <p:cNvSpPr/>
          <p:nvPr/>
        </p:nvSpPr>
        <p:spPr>
          <a:xfrm>
            <a:off x="6095880" y="3581280"/>
            <a:ext cx="1371600" cy="13716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文本框 14357"/>
          <p:cNvSpPr/>
          <p:nvPr/>
        </p:nvSpPr>
        <p:spPr>
          <a:xfrm>
            <a:off x="5226120" y="37180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文本框 14358"/>
          <p:cNvSpPr/>
          <p:nvPr/>
        </p:nvSpPr>
        <p:spPr>
          <a:xfrm>
            <a:off x="3201480" y="160020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矩形 14359"/>
          <p:cNvSpPr/>
          <p:nvPr/>
        </p:nvSpPr>
        <p:spPr>
          <a:xfrm>
            <a:off x="1763640" y="52293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黑体"/>
                <a:ea typeface="黑体"/>
              </a:rPr>
              <a:t>28 </a:t>
            </a:r>
            <a:r>
              <a:rPr b="1" lang="zh-CN" sz="7200" spc="-1" strike="noStrike">
                <a:solidFill>
                  <a:srgbClr val="0033cc"/>
                </a:solidFill>
                <a:latin typeface="黑体"/>
                <a:ea typeface="黑体"/>
              </a:rPr>
              <a:t>＝ </a:t>
            </a:r>
            <a:r>
              <a:rPr b="1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2 </a:t>
            </a:r>
            <a:r>
              <a:rPr b="0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X </a:t>
            </a:r>
            <a:r>
              <a:rPr b="1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2 </a:t>
            </a:r>
            <a:r>
              <a:rPr b="0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X </a:t>
            </a:r>
            <a:r>
              <a:rPr b="1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15362"/>
          <p:cNvSpPr/>
          <p:nvPr/>
        </p:nvSpPr>
        <p:spPr>
          <a:xfrm>
            <a:off x="3771000" y="-3049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黑体"/>
                <a:ea typeface="黑体"/>
              </a:rPr>
              <a:t>6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直接连接符 15363"/>
          <p:cNvSpPr/>
          <p:nvPr/>
        </p:nvSpPr>
        <p:spPr>
          <a:xfrm flipH="1">
            <a:off x="2991600" y="1113120"/>
            <a:ext cx="1480680" cy="7092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直接连接符 15364"/>
          <p:cNvSpPr/>
          <p:nvPr/>
        </p:nvSpPr>
        <p:spPr>
          <a:xfrm>
            <a:off x="4800600" y="1095480"/>
            <a:ext cx="1600200" cy="80964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文本框 15366"/>
          <p:cNvSpPr/>
          <p:nvPr/>
        </p:nvSpPr>
        <p:spPr>
          <a:xfrm>
            <a:off x="4216680" y="16714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直接连接符 15367"/>
          <p:cNvSpPr/>
          <p:nvPr/>
        </p:nvSpPr>
        <p:spPr>
          <a:xfrm flipH="1">
            <a:off x="1766880" y="2858400"/>
            <a:ext cx="644400" cy="73332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直接连接符 15368"/>
          <p:cNvSpPr/>
          <p:nvPr/>
        </p:nvSpPr>
        <p:spPr>
          <a:xfrm>
            <a:off x="2514600" y="2819520"/>
            <a:ext cx="609480" cy="76176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椭圆 15369"/>
          <p:cNvSpPr/>
          <p:nvPr/>
        </p:nvSpPr>
        <p:spPr>
          <a:xfrm>
            <a:off x="685800" y="3581280"/>
            <a:ext cx="1447920" cy="1459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椭圆 15370"/>
          <p:cNvSpPr/>
          <p:nvPr/>
        </p:nvSpPr>
        <p:spPr>
          <a:xfrm>
            <a:off x="2743200" y="3581280"/>
            <a:ext cx="1371600" cy="13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文本框 15371"/>
          <p:cNvSpPr/>
          <p:nvPr/>
        </p:nvSpPr>
        <p:spPr>
          <a:xfrm>
            <a:off x="2057760" y="37180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文本框 15374"/>
          <p:cNvSpPr/>
          <p:nvPr/>
        </p:nvSpPr>
        <p:spPr>
          <a:xfrm>
            <a:off x="4218120" y="37180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文本框 15375"/>
          <p:cNvSpPr/>
          <p:nvPr/>
        </p:nvSpPr>
        <p:spPr>
          <a:xfrm>
            <a:off x="2210760" y="161136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矩形 15376"/>
          <p:cNvSpPr/>
          <p:nvPr/>
        </p:nvSpPr>
        <p:spPr>
          <a:xfrm>
            <a:off x="1258920" y="5084640"/>
            <a:ext cx="7058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en-US" sz="8000" spc="-1" strike="noStrike">
                <a:solidFill>
                  <a:srgbClr val="ff3300"/>
                </a:solidFill>
                <a:latin typeface="黑体"/>
                <a:ea typeface="黑体"/>
              </a:rPr>
              <a:t>60</a:t>
            </a: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矩形 15378"/>
          <p:cNvSpPr/>
          <p:nvPr/>
        </p:nvSpPr>
        <p:spPr>
          <a:xfrm>
            <a:off x="6192000" y="167652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直接连接符 15379"/>
          <p:cNvSpPr/>
          <p:nvPr/>
        </p:nvSpPr>
        <p:spPr>
          <a:xfrm flipH="1">
            <a:off x="6126480" y="2914200"/>
            <a:ext cx="642240" cy="6804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直接连接符 15380"/>
          <p:cNvSpPr/>
          <p:nvPr/>
        </p:nvSpPr>
        <p:spPr>
          <a:xfrm>
            <a:off x="6858000" y="289548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椭圆 15381"/>
          <p:cNvSpPr/>
          <p:nvPr/>
        </p:nvSpPr>
        <p:spPr>
          <a:xfrm>
            <a:off x="5029200" y="3633840"/>
            <a:ext cx="1447920" cy="1458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椭圆 15382"/>
          <p:cNvSpPr/>
          <p:nvPr/>
        </p:nvSpPr>
        <p:spPr>
          <a:xfrm>
            <a:off x="7086600" y="3633840"/>
            <a:ext cx="1371600" cy="13827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文本框 15383"/>
          <p:cNvSpPr/>
          <p:nvPr/>
        </p:nvSpPr>
        <p:spPr>
          <a:xfrm>
            <a:off x="6378840" y="3770280"/>
            <a:ext cx="759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16385"/>
          <p:cNvSpPr/>
          <p:nvPr/>
        </p:nvSpPr>
        <p:spPr>
          <a:xfrm>
            <a:off x="739800" y="228600"/>
            <a:ext cx="61880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每个合数都可以写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成几个</a:t>
            </a:r>
            <a:r>
              <a:rPr b="1" lang="en-US" sz="5400" spc="-1" strike="noStrike">
                <a:solidFill>
                  <a:srgbClr val="0033cc"/>
                </a:solidFill>
                <a:latin typeface="黑体"/>
                <a:ea typeface="黑体"/>
              </a:rPr>
              <a:t>(    )</a:t>
            </a: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数相乘的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形式</a:t>
            </a:r>
            <a:r>
              <a:rPr b="1" lang="en-US" sz="54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其中每个质数都是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这个合数的</a:t>
            </a:r>
            <a:r>
              <a:rPr b="1" lang="en-US" sz="5400" spc="-1" strike="noStrike">
                <a:solidFill>
                  <a:srgbClr val="0033cc"/>
                </a:solidFill>
                <a:latin typeface="黑体"/>
                <a:ea typeface="黑体"/>
              </a:rPr>
              <a:t>(   )</a:t>
            </a: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数</a:t>
            </a:r>
            <a:r>
              <a:rPr b="1" lang="en-US" sz="54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叫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做这个合数的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质因数</a:t>
            </a:r>
            <a:r>
              <a:rPr b="1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文本框 16395"/>
          <p:cNvSpPr/>
          <p:nvPr/>
        </p:nvSpPr>
        <p:spPr>
          <a:xfrm>
            <a:off x="2771640" y="112536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质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文本框 16396"/>
          <p:cNvSpPr/>
          <p:nvPr/>
        </p:nvSpPr>
        <p:spPr>
          <a:xfrm>
            <a:off x="4140360" y="285264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因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06:36:00Z</dcterms:created>
  <dc:creator/>
  <dc:description/>
  <dc:language>en-US</dc:language>
  <cp:lastModifiedBy/>
  <dcterms:modified xsi:type="dcterms:W3CDTF">2017-12-13T14:33:18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